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90360" y="164880"/>
            <a:ext cx="817884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90360" y="4640040"/>
            <a:ext cx="817884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81120" y="22982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9036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181120" y="4640040"/>
            <a:ext cx="399096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75588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21400" y="22982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9036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75588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521400" y="4640040"/>
            <a:ext cx="2633400" cy="2138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406368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943240" y="2298240"/>
            <a:ext cx="3225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8000"/>
          </a:bodyPr>
          <a:p>
            <a:pPr marL="4316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250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01052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31256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90360" y="825120"/>
            <a:ext cx="8178840" cy="595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5979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99072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371960" indent="-30888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77660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12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126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402200" indent="-31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81584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43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81916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69800" y="3860280"/>
            <a:ext cx="4711680" cy="238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69800" y="1397160"/>
            <a:ext cx="4711680" cy="238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6159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346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414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Energy Solution for </a:t>
            </a: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San Pablo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90360" y="5219640"/>
            <a:ext cx="8178840" cy="88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Brittney, Trevor, Jason, Steve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Estimated Micro Hydro Electricity Production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-Assumptions-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t Season Flow Rate: 200 L /sec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Dry Season Flow Rate: 80 L /sec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vation Change: 150 m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ystem Efficiency of 50%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58.8 kw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lnSpc>
                <a:spcPct val="100000"/>
              </a:lnSpc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Estimated Micro Hydro System Cost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Development Costs =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$3,500/kw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Transmission Costs =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$30,000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Total System Cost =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$3,500(58.8 kw)</a:t>
            </a:r>
            <a:r>
              <a:rPr b="0" lang="en-US" sz="28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$30,000=$235,800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Paymen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991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Down Payment = $100 per fami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terest Rate = 5%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xpected Annual Maintenance Costs = $10,000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nthly Payment: $1,099.87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nthly Payment Per Family: $8.09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2857320"/>
            <a:ext cx="817884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Knowledge is power!</a:t>
            </a:r>
            <a:br>
              <a:rPr sz="5600"/>
            </a:br>
            <a:r>
              <a:rPr b="0" lang="en-US" sz="56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56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56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56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56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... no, seriously 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rcRect l="9777" t="4483" r="8886" b="11212"/>
          <a:stretch/>
        </p:blipFill>
        <p:spPr>
          <a:xfrm>
            <a:off x="2781360" y="1841400"/>
            <a:ext cx="4648320" cy="47754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4017240" y="911880"/>
            <a:ext cx="2117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halkboard"/>
                <a:ea typeface="Chalkboard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Review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47280" y="927000"/>
            <a:ext cx="88520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an Pablo wants to get off the energy gri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y haven’t paid for their electric bill in 8 year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Problem Statemen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"/>
          <p:cNvSpPr/>
          <p:nvPr/>
        </p:nvSpPr>
        <p:spPr>
          <a:xfrm>
            <a:off x="847800" y="1663560"/>
            <a:ext cx="845820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  <a:ea typeface="Chalkboard"/>
              </a:rPr>
              <a:t>San Pablo relies on electricity for their everyday lives but due to political and financial and cultural issues, want to separate themselves from the power compan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870280" y="4160880"/>
            <a:ext cx="4406760" cy="34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Efficiency problem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360" y="195588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y are inefficient in energy usag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546200" indent="-33984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heating water, lighting,  &amp; shower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y don’t have enough money to pay for a cheap alternative, sustainable energy source such as micro hydr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Solutions?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re efficient power usag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icro hydr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Education Plan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1520" y="2158560"/>
            <a:ext cx="61596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urriculum to teach the locals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546200" indent="-33984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importance of being efficient with their pow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448000" indent="-33984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nancially 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(ease tensions with power company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448000" indent="-33984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nvironmental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546200" indent="-33984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to be energy efficien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6299280" y="3618000"/>
            <a:ext cx="373356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-1652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Energy Efficiency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1257480"/>
            <a:ext cx="8178840" cy="6286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imit light usage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urn off when not needed (on timer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nergy efficient light bulbs (15% more efficient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etter window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ky ligh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ut back during peak usag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Better stove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Clr>
                <a:srgbClr val="ffffff"/>
              </a:buClr>
              <a:buSzPct val="43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Better insulat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re efficient showers (solar showers?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lnSpc>
                <a:spcPct val="100000"/>
              </a:lnSpc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2352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Micro Hydro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87320" y="622440"/>
            <a:ext cx="8352000" cy="637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